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0.xml"/><Relationship Id="rId13" Type="http://schemas.openxmlformats.org/officeDocument/2006/relationships/slide" Target="slide20.xml"/><Relationship Id="rId14" Type="http://schemas.openxmlformats.org/officeDocument/2006/relationships/slide" Target="slide20.xm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1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slide" Target="slide23.xm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440" y="54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9200" y="549360"/>
            <a:ext cx="71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osmotisch wirksame 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8" idx="3"/>
            <a:endCxn id="17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Mannit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4" idx="3"/>
            <a:endCxn id="17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8" name=""/>
          <p:cNvCxnSpPr>
            <a:stCxn id="174" idx="3"/>
            <a:endCxn id="17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1081800" y="549360"/>
            <a:ext cx="74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ierenmark 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81800" y="549360"/>
            <a:ext cx="74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2" idx="3"/>
            <a:endCxn id="18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stö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1800" y="549360"/>
            <a:ext cx="74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8" idx="3"/>
            <a:endCxn id="19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armes Futt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4" idx="3"/>
            <a:endCxn id="19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8" name=""/>
          <p:cNvCxnSpPr>
            <a:stCxn id="194" idx="3"/>
            <a:endCxn id="19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927360" y="54936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2" idx="3"/>
            <a:endCxn id="205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6" name=""/>
          <p:cNvCxnSpPr>
            <a:stCxn id="202" idx="3"/>
            <a:endCxn id="20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4360" y="549360"/>
            <a:ext cx="71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H-Bildu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3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DH-Freisetzu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0" idx="3"/>
            <a:endCxn id="21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4" name=""/>
          <p:cNvCxnSpPr>
            <a:stCxn id="210" idx="3"/>
            <a:endCxn id="21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1043640" y="549360"/>
            <a:ext cx="73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ekundärer 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43640" y="549360"/>
            <a:ext cx="73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kundärer 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DH-Bildu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8" idx="3"/>
            <a:endCxn id="22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Freisetz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43640" y="549360"/>
            <a:ext cx="73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kundärer 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DH-Freisetzu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4" idx="3"/>
            <a:endCxn id="2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Alkoh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4520" y="549360"/>
            <a:ext cx="75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3"/>
            <a:endCxn id="233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4" name=""/>
          <p:cNvCxnSpPr>
            <a:stCxn id="230" idx="3"/>
            <a:endCxn id="235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0" idx="3"/>
            <a:endCxn id="236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kompetitiv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70480" y="54936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3"/>
            <a:endCxn id="109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stCxn id="106" idx="3"/>
            <a:endCxn id="11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6" idx="3"/>
            <a:endCxn id="112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4160" y="549360"/>
            <a:ext cx="77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ngeborener Mangel/Fehlfunktion der 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0" idx="3"/>
            <a:endCxn id="243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4160" y="549360"/>
            <a:ext cx="77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ompetitive Hemmung 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3"/>
            <a:endCxn id="24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cherichia-coli-Toxin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Koffei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4160" y="549360"/>
            <a:ext cx="77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Zerstörung der 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2" idx="3"/>
            <a:endCxn id="25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8" idx="3"/>
            <a:endCxn id="26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62" name=""/>
          <p:cNvCxnSpPr>
            <a:stCxn id="258" idx="3"/>
            <a:endCxn id="25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ych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ur Hu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70120" y="549360"/>
            <a:ext cx="23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6" idx="3"/>
            <a:endCxn id="26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70" name=""/>
          <p:cNvCxnSpPr>
            <a:stCxn id="266" idx="3"/>
            <a:endCxn id="26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1018080" y="549360"/>
            <a:ext cx="60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eeinflussung des 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50120" y="54936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einflussung des Durstzentrum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äs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 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4" idx="3"/>
            <a:endCxn id="27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6640" y="549360"/>
            <a:ext cx="76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&gt; primäre PD &gt; Beeinflussung des Durstzentrums &gt; 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0" idx="3"/>
            <a:endCxn id="28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mmo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i Leberinsuffizienz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7960" y="549360"/>
            <a:ext cx="61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Funktionsverlust von 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6" idx="3"/>
            <a:endCxn id="11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1" name=""/>
          <p:cNvCxnSpPr>
            <a:stCxn id="116" idx="3"/>
            <a:endCxn id="122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5560" y="549360"/>
            <a:ext cx="706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D/PU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primäre PU &gt; Funktionsverlust von Nephronen &gt; 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3"/>
            <a:endCxn id="1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sch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0" idx="3"/>
            <a:endCxn id="13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1069920" y="549360"/>
            <a:ext cx="69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influss von osmotisch wirksamen 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3"/>
            <a:endCxn id="13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2" name=""/>
          <p:cNvCxnSpPr>
            <a:stCxn id="138" idx="3"/>
            <a:endCxn id="14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8" idx="3"/>
            <a:endCxn id="143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6" name=""/>
          <p:cNvCxnSpPr>
            <a:stCxn id="138" idx="3"/>
            <a:endCxn id="144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1069200" y="549360"/>
            <a:ext cx="71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9200" y="549360"/>
            <a:ext cx="71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lukose 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3"/>
            <a:endCxn id="15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mellit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nconi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s Tubulusepithe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durch Nephrotoxin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9200" y="549360"/>
            <a:ext cx="71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-obstruktive Diure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nach FLUT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4520" y="5692320"/>
            <a:ext cx="428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9200" y="549360"/>
            <a:ext cx="71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D/PU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2" idx="3"/>
            <a:endCxn id="16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3:26:34Z</dcterms:modified>
  <cp:revision>332</cp:revision>
  <dc:subject/>
  <dc:title>Vorstellung einer Neuheit</dc:title>
</cp:coreProperties>
</file>